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EB0-137E-420F-B3E8-1D1B172A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050-33C8-4AA7-9124-61DF5BB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7E595-9895-463B-831F-6638F6B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A1DBBA-7E5F-41F8-97B4-FEDC28F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A6BEB-0574-47A1-9239-80EA698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A523D-1EAD-4730-84E0-FA847ED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764EE-3819-4196-8B6A-A5A9544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115C5-D08E-4142-A590-185ACE5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02BC5-9193-4E5F-BF47-AD1B124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E7288-E3EA-4D57-A050-4EED1E72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98A717-FFB6-430E-B84A-374AE64F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4DEAE-F81C-4E97-9C5A-46951542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A8D-1E7C-404A-B117-519EF690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AF563-E0D2-48BA-B505-990483FB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78B6A-BB15-4DE0-9E5F-7B241EC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13375-466C-4F9B-8273-32D43988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CE0E9-BAAB-411F-8F63-458DA566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CF66C-BC46-4775-A0D4-BD997673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81DF2-010E-43A7-8D6B-7D2FAB3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57F96-EEB2-4703-8558-5DA0FC6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8AC52-4032-4BF3-B504-32AA3FA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6F01-90F2-4582-B232-DAC4ED0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F935F-B028-42D8-97B5-78B0E820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E16-03A2-4684-A144-D7394F2B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CA0CA-D4A7-442C-B4B8-B7F32D10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FACDAD-FBA8-4ED5-9C14-92A3D542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DE0B9-08A1-4763-A3CB-B26E2AC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E3DC7A-C63F-4C1F-A0B7-E801B12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A198C6-9F84-4B09-A1F6-1CE3EF7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F8EB51-864D-4179-85B8-27221AF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C06303-C011-483F-A54A-147C92D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6CC67B-9619-4611-88D4-2B19EAF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D8D2DF-84DC-4C25-AA8E-BC99039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21BB09-2FDF-4225-B048-F36C2A0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9350-18EA-4EDF-A66A-93DC4216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B9DA6F-2B7F-41F1-8253-107E862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E94016-44A5-4BBE-ABB7-E9B3FFCF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1F65B5-B366-4FA3-948B-9C79B85D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1FD73-509E-4D50-B411-CC83ADCB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DE7DF-2E24-4026-904A-5B0345AE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7E6BF-DD56-4391-AB8F-EC61DB2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F6A96-8FC6-4E00-BED3-A874C695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FD462-82A3-4A8B-9467-9B529F1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BC65B-B831-47CB-B4D9-65B1558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EF45F-9409-45B8-9C73-9F0D1E7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C2D-8494-4FC6-92CE-6DF9DC1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18958-5066-459A-8337-96C13CE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9CB2-1775-43EC-B561-1FA14B4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5F147-57C3-4E4A-A265-0CEF5C1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6397B-AFD1-4ED3-89B2-C3FF3872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96A04-C761-4FE9-BDF2-B7CE2756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9906-0A4C-4208-ACF2-536051A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6E87-ACB9-488F-8D0A-231DD67F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E940-66B3-466A-9539-B133C4CD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CA2-028B-4246-99DE-886A6DBB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143-A75A-46E5-8222-6BE81BE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C65-15D6-4F00-A534-014280E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DCC5-D262-4318-8126-26B92DA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45F-7F7C-4A77-9D45-9CAE43B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8E5-AD7A-4C0F-A6C7-B735E0BE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C73-129F-48E1-9B17-640EC092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DBC-36E4-436F-A45A-214CE9AE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EE57-2052-4E6B-9CDB-340E4EAE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6EAD-87E5-4FA3-97C2-6001D45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24D8-5DFF-4E16-A561-F98307F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3E98-4CFD-4F80-8F9C-6020BD61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6753-3673-4A47-BED1-06134F6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A0B-45DB-4784-BAA6-C949273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278B-979B-43B2-A081-7FD265D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DFFC-CE56-490C-AA81-6227434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8F8B-96C4-4208-8780-041868D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BF0E-85E4-4E73-9957-E7D0600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A91B-53F6-48CE-AB7C-BE43BA4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5FB2-EF6E-4A02-8E91-1C64B1FF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46AC-95A8-49F6-9436-03A3450E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1EF9-8056-4BC0-9926-D698ADCB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122C-AD5A-4C86-84A8-9E276B9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DBB9-3AA6-42B0-B20C-5608E9C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E66-A137-44E3-AFD0-7B2CE6D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0F22-45E8-4C9B-A568-B901843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3098-9EC1-4014-BBDB-BF26EC1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A01B-56A9-4967-B054-8EF9B04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431C-7F60-4A1A-9954-9328A31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F130-93DF-4760-A060-E530AC2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D0FB-20A4-4BD7-8901-AF19D90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F5FA-6F6E-44EA-9B16-AAC7E093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79F1-7C52-4B43-976E-3B71BDAC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787B-9A8C-4051-8459-D5B61B2E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9F299-87E4-47FC-9083-94D267EC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9DC-E6DC-4925-BC80-D031B32F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8C8FB-3C4D-438F-B95D-C5621501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0F1E-D740-4B74-A6E2-2DF3F67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6AFA-C23B-4976-97DD-8E588A8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E942-FA55-40AA-A47B-06B30562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F755-E6AC-4AF2-A3B6-14A89D5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D02B-30CB-4996-92B6-E563712A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3CE2-A66C-40DE-9E3A-9F7D036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BCF9-C308-4818-A5F7-B8FF2083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BA98E-ABB6-4E17-994B-99C72AC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2435-8769-45C4-8621-EE11E3D2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B37-38A5-4B71-A05B-870CA2A1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7ABA0-883A-4678-BAEE-277E43A1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CE77-0A1D-4A23-88C2-E2B9ED5E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AC59-B635-4D60-A592-30E54EE6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EFC10-4BCB-4521-ADC4-4AA90979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F73D-3682-4CE7-BCDD-2350B120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E913-25B6-4D0D-9D36-7885B49F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BC8DD-E120-47E8-8F0E-D0413D7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FD914-9581-40F6-A00F-A196FBA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7ED1-0FE4-4D6A-A9AF-9111857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0A60-03D4-496B-B1A4-9103D39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2D5-6100-45C3-AE9D-BCD6CE17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BFA14-94F7-453C-B917-3F1AEAF5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5860-7AA5-44C4-914E-470484DC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3881-2517-454D-896D-027066F6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75A0-98B4-422B-87A4-0B6C8D33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270D7-87ED-492F-82A8-43159D79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1DA7-7515-4DBA-8CAD-77E8938F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EC0C5-F20F-44ED-9F10-AE4E12A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C4F0-6AB8-427B-9014-ECEE0C9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D6277-FA7F-4466-B460-28F03D7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45B9-E17D-44B1-96FD-D6F8116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DCB-9BF1-4814-B26B-35EC025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4609-C596-4661-8AD5-E89242E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E023-DDC7-4F0F-83DD-F824340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39B2-1BCF-49EC-B41B-10D9E63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3D63-EF53-4F32-9779-F14DD1C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5667-8E1A-4BC9-B918-C2512A04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B0BD-8CDB-4FE7-B962-078A6567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968C2-A50E-4B6F-884B-C7350D5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A5D6-F303-4295-B874-950CD690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78AE-1345-4B11-8F38-CF60EDD5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D30C-3B5C-4A94-BA2C-B468E8F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2AD-293D-4FA9-BE10-7DDFA30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8780-C7B2-4478-8256-0E07C6AA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8FBA-A8CC-489D-A637-3690E26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CD356-A796-4C0E-9594-BB9406D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6B75-6FCD-4A7B-BF07-6D7BFBC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A8C7C-33FF-4B04-AF47-2120A4AC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F313-DC1D-42A7-80D3-CED39C7A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C1626-F9FD-4150-9A66-B189B884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12F57-F657-45BB-8208-FF4D318A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9CE4D-0438-44B6-AAAF-BB1A0A19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65EFC-3541-4707-B486-767BC795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CFA7-F585-43C4-A042-17F9D871D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421C-FEAD-4ABE-8D5C-B68CF3AA12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2D0-35B7-4512-9DB6-BFFC03F73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67E-72F2-43E0-8CA3-3D97578D1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B73-B4BF-4CA2-9868-789CC8A3C6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1786-0289-4281-A25C-6F4F0EB59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C19-77CB-4C9A-9A1A-218B5818A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626-BDB6-4A8B-81FA-BE727F0E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83A-7087-4BD7-9470-1536D0A54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38A-2FD1-4641-BD8C-E241CEFDF5E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FF86-B9EE-44F1-BBF0-07168DA5CEB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182-0D42-4DE6-9498-F1F08C5D1E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La Mansió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 Page Freem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753160" cy="38419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914400" y="5943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Por: Page Freeman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garaje. Es impresionante y mag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Ma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19320" y="17524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219320" y="16765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Es una mansi</a:t>
            </a:r>
            <a:r>
              <a:rPr b="0" lang="en-US" sz="3200" spc="-1" strike="noStrike">
                <a:solidFill>
                  <a:srgbClr val="2f1311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n. Es muy grande y fabulos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531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61760" y="1755720"/>
            <a:ext cx="79246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s una cocina. Es moderna y gran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9528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El comedor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comedo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bello y mag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498920" cy="357660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371600" y="3200400"/>
            <a:ext cx="49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 una sala. Es estupenda y impresionan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l Ba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Arial"/>
              </a:rPr>
              <a:t>ñ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un baño. Es bonito y lujos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613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oderno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51818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inc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3434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Jar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s un jardin. Es fabuloso y bel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3" name="" descr="File:Japanese Garden by slonecker.jpg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8:48Z</dcterms:created>
  <dc:creator>freemanpag</dc:creator>
  <dc:description/>
  <dc:language>en-US</dc:language>
  <cp:lastModifiedBy>freemanpag</cp:lastModifiedBy>
  <dcterms:modified xsi:type="dcterms:W3CDTF">2013-04-03T17:56:43Z</dcterms:modified>
  <cp:revision>5</cp:revision>
  <dc:subject/>
  <dc:title>La Mansión</dc:title>
</cp:coreProperties>
</file>